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659-3359-458D-97CA-DD4F1985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414-598C-472F-8F7D-60CA6C11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918-CE42-49C1-BCD6-B8AC5CD5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56F-78B6-4F3C-87BE-2C5DFAE6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E05-158C-4180-A87D-87646DC9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4A43-1F23-4C39-90A1-FA801C7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CBED-0F56-4D7A-8FAE-7A7D3619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598C-5CFD-4C90-9B67-765E967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B9C9-2A97-4390-ACFB-79B095A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5DA7-EB11-4E23-AE64-CE2FE34F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FF8-85BE-4D13-9442-E607A95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07F-EB71-4E77-96C6-9EED4ADE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E42-6D5C-40AD-8A35-D77F001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3117-7DCF-4E51-819A-9AC0FA0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5748-B842-464F-8730-4031D33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E31-06CF-4B5C-A43F-7038EDD3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D85C-81D0-41E5-A2D0-5FE73D78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D6F-C53B-4A71-9E91-33D82B6E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5C9-4E4F-4CD6-8F55-17BF6912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936-EF76-4BE4-A2FA-7A519D1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813-42E1-49C9-B8B4-ABDB0F12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BA7-D9A1-4C14-85D5-8E1E568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D56-AFD5-4E5E-B3F2-FCE018D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981-D464-494B-A1A6-CC89C24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C920-ABDC-415C-9F08-C46A574AB67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74B6-72AD-4276-9D06-C183C2F250A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ctoroz.com/videos/ask-dr-oz-anti-cancer-edition-pt-1" TargetMode="External"/><Relationship Id="rId2" Type="http://schemas.openxmlformats.org/officeDocument/2006/relationships/hyperlink" Target="http://www.doctoroz.com/videos/ask-dr-oz-anti-cancer-edition-pt-2" TargetMode="External"/><Relationship Id="rId3" Type="http://schemas.openxmlformats.org/officeDocument/2006/relationships/hyperlink" Target="http://www.doctoroz.com/videos/ask-dr-oz-anti-cancer-edition-pt-3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octoroz.com/videos/prevent-skin-cance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Canc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How can you reduce your ris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Dr. O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sk: Anti-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http://www.doctoroz.com/videos/ask-dr-oz-anti-cancer-edition-pt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doctoroz.com/videos/ask-dr-oz-anti-cancer-edition-pt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doctoroz.com/videos/ask-dr-oz-anti-cancer-edition-pt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Skin Cancer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FOR YOUR INFO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ost common cancer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ore than 3.5 million cases a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1 in 5 persons will devel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ost comm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asal cell – highly c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quamous cell – highly c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lanoma – cancerous, DANGERO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ABC’s of Skin 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assymme" descr="melanoma picture.jpg"/>
          <p:cNvPicPr/>
          <p:nvPr/>
        </p:nvPicPr>
        <p:blipFill>
          <a:blip r:embed="rId1"/>
          <a:stretch/>
        </p:blipFill>
        <p:spPr>
          <a:xfrm>
            <a:off x="1523880" y="1981080"/>
            <a:ext cx="1333800" cy="893880"/>
          </a:xfrm>
          <a:prstGeom prst="rect">
            <a:avLst/>
          </a:prstGeom>
          <a:ln w="0">
            <a:noFill/>
          </a:ln>
        </p:spPr>
      </p:pic>
      <p:pic>
        <p:nvPicPr>
          <p:cNvPr id="114" name="border" descr="melanoma picture.jpg"/>
          <p:cNvPicPr/>
          <p:nvPr/>
        </p:nvPicPr>
        <p:blipFill>
          <a:blip r:embed="rId2"/>
          <a:stretch/>
        </p:blipFill>
        <p:spPr>
          <a:xfrm>
            <a:off x="7467480" y="2514600"/>
            <a:ext cx="1447920" cy="969840"/>
          </a:xfrm>
          <a:prstGeom prst="rect">
            <a:avLst/>
          </a:prstGeom>
          <a:ln w="0">
            <a:noFill/>
          </a:ln>
        </p:spPr>
      </p:pic>
      <p:pic>
        <p:nvPicPr>
          <p:cNvPr id="115" name="color" descr="melanoma picture.jpg"/>
          <p:cNvPicPr/>
          <p:nvPr/>
        </p:nvPicPr>
        <p:blipFill>
          <a:blip r:embed="rId3"/>
          <a:stretch/>
        </p:blipFill>
        <p:spPr>
          <a:xfrm>
            <a:off x="990720" y="3048120"/>
            <a:ext cx="1143000" cy="765000"/>
          </a:xfrm>
          <a:prstGeom prst="rect">
            <a:avLst/>
          </a:prstGeom>
          <a:ln w="0">
            <a:noFill/>
          </a:ln>
        </p:spPr>
      </p:pic>
      <p:pic>
        <p:nvPicPr>
          <p:cNvPr id="116" name="diameter" descr="melanoma picture.jpg"/>
          <p:cNvPicPr/>
          <p:nvPr/>
        </p:nvPicPr>
        <p:blipFill>
          <a:blip r:embed="rId4"/>
          <a:stretch/>
        </p:blipFill>
        <p:spPr>
          <a:xfrm>
            <a:off x="1752480" y="4267080"/>
            <a:ext cx="95256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emalignants" descr="melanoma picture.jpg"/>
          <p:cNvPicPr/>
          <p:nvPr/>
        </p:nvPicPr>
        <p:blipFill>
          <a:blip r:embed="rId5"/>
          <a:stretch/>
        </p:blipFill>
        <p:spPr>
          <a:xfrm>
            <a:off x="152280" y="533412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600200"/>
          <a:ext cx="8199360" cy="4800240"/>
        </p:xfrm>
        <a:graphic>
          <a:graphicData uri="http://schemas.openxmlformats.org/drawingml/2006/table">
            <a:tbl>
              <a:tblPr/>
              <a:tblGrid>
                <a:gridCol w="216000"/>
                <a:gridCol w="798336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symmetry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f you draw a line through this mole, the two halves will not match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orde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e borders of an early melanoma tend to be uneven. The edges may be scalloped or notched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lo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Having a variety of colors is another warning signal. A number of different shades of brown, tan or black could appear. A melanoma may also become red, blue or some other color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amete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elanomas usually are larger in diameter than the size of the eraser on your pencil (1/4 inch or 6 mm), but they may sometimes be smaller when first detected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Evolving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ny change — in size, shape, color, elevation, or another trait, or any new symptom such as bleeding, itching or crusting — points to danger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Skin 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l" descr="mole picture.jpg"/>
          <p:cNvPicPr/>
          <p:nvPr/>
        </p:nvPicPr>
        <p:blipFill>
          <a:blip r:embed="rId1"/>
          <a:stretch/>
        </p:blipFill>
        <p:spPr>
          <a:xfrm>
            <a:off x="3581280" y="243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1r" descr="melanoma picture.jpg"/>
          <p:cNvPicPr/>
          <p:nvPr/>
        </p:nvPicPr>
        <p:blipFill>
          <a:blip r:embed="rId2"/>
          <a:stretch/>
        </p:blipFill>
        <p:spPr>
          <a:xfrm>
            <a:off x="4800600" y="243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2l" descr="mole picture.jpg"/>
          <p:cNvPicPr/>
          <p:nvPr/>
        </p:nvPicPr>
        <p:blipFill>
          <a:blip r:embed="rId3"/>
          <a:stretch/>
        </p:blipFill>
        <p:spPr>
          <a:xfrm>
            <a:off x="3581280" y="3352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2r" descr="melanoma picture.jpg"/>
          <p:cNvPicPr/>
          <p:nvPr/>
        </p:nvPicPr>
        <p:blipFill>
          <a:blip r:embed="rId4"/>
          <a:stretch/>
        </p:blipFill>
        <p:spPr>
          <a:xfrm>
            <a:off x="4800600" y="3352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3l" descr="mole picture.jpg"/>
          <p:cNvPicPr/>
          <p:nvPr/>
        </p:nvPicPr>
        <p:blipFill>
          <a:blip r:embed="rId5"/>
          <a:stretch/>
        </p:blipFill>
        <p:spPr>
          <a:xfrm>
            <a:off x="3581280" y="4267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3r" descr="melanoma picture.jpg"/>
          <p:cNvPicPr/>
          <p:nvPr/>
        </p:nvPicPr>
        <p:blipFill>
          <a:blip r:embed="rId6"/>
          <a:stretch/>
        </p:blipFill>
        <p:spPr>
          <a:xfrm>
            <a:off x="4800600" y="4267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4l" descr="mole picture.jpg"/>
          <p:cNvPicPr/>
          <p:nvPr/>
        </p:nvPicPr>
        <p:blipFill>
          <a:blip r:embed="rId7"/>
          <a:stretch/>
        </p:blipFill>
        <p:spPr>
          <a:xfrm>
            <a:off x="3581280" y="5181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4r" descr="melanoma picture.jpg"/>
          <p:cNvPicPr/>
          <p:nvPr/>
        </p:nvPicPr>
        <p:blipFill>
          <a:blip r:embed="rId8"/>
          <a:stretch/>
        </p:blipFill>
        <p:spPr>
          <a:xfrm>
            <a:off x="480060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1752480"/>
          <a:ext cx="7314840" cy="4740120"/>
        </p:xfrm>
        <a:graphic>
          <a:graphicData uri="http://schemas.openxmlformats.org/drawingml/2006/table">
            <a:tbl>
              <a:tblPr/>
              <a:tblGrid>
                <a:gridCol w="2553480"/>
                <a:gridCol w="1029960"/>
                <a:gridCol w="1321200"/>
                <a:gridCol w="2410200"/>
              </a:tblGrid>
              <a:tr h="80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enig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alignant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ymmetrical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symmetrical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orders are eve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orders are uneve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ne shade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wo or more shade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maller than 1/4 inch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Larger than 1/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ABC’s of Skin 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Skin Cancer"/>
          <p:cNvPicPr/>
          <p:nvPr/>
        </p:nvPicPr>
        <p:blipFill>
          <a:blip r:embed="rId1"/>
          <a:stretch/>
        </p:blipFill>
        <p:spPr>
          <a:xfrm>
            <a:off x="1676520" y="1219320"/>
            <a:ext cx="6527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Dr. O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Skin Can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http://www.doctoroz.com/videos/prevent-skin-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Your body cell’s are constantl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growing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divi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Sometimes they reproduc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rapidl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uncontrollabl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, formin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m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okman Old Style"/>
              </a:rPr>
              <a:t>The uncontrollable growth of abnormal cells is called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umor = Benig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Tumor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 = abnormal mass of tissue that has no natural role in the bod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Noncancerous =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benig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Grow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slowly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 &amp; are surrounded b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membr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cccc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Prevents from spreading from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original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 si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They don’t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spread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But can interfere with bod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umor = Maligna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Cancerous =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malign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They spread to neighbor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tissues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through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blood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or lym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The spread of cancer from the point where it originated to other parts is called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metast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As cancer cells spread throughout the body they divide &amp; form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tum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Remember. . .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n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harm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n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nor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n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compete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with normal cells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Remember. .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umors pu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pressur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on surrounding tissues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umo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interfer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with bod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umors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arteries, veins and other passage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ancer can develop in an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part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of the body &amp;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different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t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Lympho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Leuk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arcino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Sarco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Lymphoma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 of the immun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Leukemia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s of the blood-forming org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Carcinoma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s of the glands and body linings, including the skin and the linings of the digestive tract and lu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Sarcoma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s of connective tissue, including bones, ligaments, and mus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13:40Z</dcterms:created>
  <dc:creator>smeltzerc</dc:creator>
  <dc:description/>
  <dc:language>en-US</dc:language>
  <cp:lastModifiedBy>smeltzerc</cp:lastModifiedBy>
  <dcterms:modified xsi:type="dcterms:W3CDTF">2010-10-18T13:24:36Z</dcterms:modified>
  <cp:revision>32</cp:revision>
  <dc:subject/>
  <dc:title>Slide 1</dc:title>
</cp:coreProperties>
</file>